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6B4D-ED16-4538-8FA1-96F5289B3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4F77-BD27-4678-9A85-0F29ED22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780DE9-CD09-45B7-BF49-1D5ECC48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1CF103-1C22-46A0-8B8C-F86029AB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8B6BF3-5C15-4BC0-B9FF-F6C59729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D069DB-E268-4694-9DE7-E2F5A9CE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6F3B6E-0C33-47CB-B0E6-7445E729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1B3035-81B2-45EA-BE16-9AB9AC75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7A4316-2F2C-4B7E-A839-A7BE295A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FA4542-ACFB-4626-99E3-455E826BB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3F0F0D-A65A-4C96-B29E-C5C6595DF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51DE80-D80B-4287-B2F0-B5A926CAA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DF30-65A7-4F87-9024-5AFA6947F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97CE8D-1C16-4F2C-9382-D52EC029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8DB9F4-79C6-4E1C-9FEC-B5C46EE4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C5F2D2-A661-4BB7-9512-BF0BEFF6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A4F9C1-CDF5-426B-B6F7-1D54224F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FF2F15-AD3D-4361-A357-02EF8600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51A4A5-334D-48BB-855B-75F4B6CC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D5FA7F-7A03-4618-9F02-62AD08AA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C86380-C889-4C6E-886F-F5230F0C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2BFB3D-D6C8-4200-A240-C63A271A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C1C1A7-105D-425E-8313-9C5E17080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5426-2A3C-4264-9AAA-46ADA59F5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627331-615C-4779-B799-2DFB6241F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C8D187-A48F-4628-B8C6-88FDF011A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B4267-2C99-489A-B157-24649ECB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EF6A2-15A8-432B-8D48-508358FD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A8A26C-5962-4FF9-8B1C-BE31C792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C6913A-3CAC-4A9B-9C6A-4B15D26C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2407B5-3FC4-4245-B7D0-F01EE0AC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C25F7-84FD-4958-A2EC-5193C853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B4558-25B7-4566-9B13-E976E826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FB842-E790-40CA-8460-29EF02CB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5F0F-5C3E-4177-A237-B6F264E45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A79FA5-320F-4081-BEC7-4094BE24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33A0D-CD0D-4025-B830-D6C1D7573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FAA3B-0BD0-4FE7-BC14-1D5CC35DB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AC50F4-6140-4378-B51D-45A555642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76A20C-F51F-4419-AB39-EED42CC0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08E5EF-949E-49E6-82BB-2F77C39D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CB69A5-C1C5-4E69-AE92-F9093CD4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C38CAD-C1F6-44CA-9C49-4B5B3EEC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3E073E-4062-4A99-BD78-61560023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E84964-FF0C-477C-AB5C-F30E9620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EC598-0A1F-4A3C-8667-EF9F7883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AB0DDE-2911-467D-A235-87EB3B53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F6CBB0-124C-4381-86D6-51CB401D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7103C1-3473-4F69-B6DC-1BD55240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4250B4-68D8-4841-A3F2-6C18BF9DF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EAB704-A237-4440-B0C8-A60129F82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964C6C-E418-48FD-A018-26B6A5304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32A359-16E5-409E-B1D2-379B612B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586151-3FD0-4731-8EB1-5AE0F3DF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7F7BC5-A818-4CD7-ACEF-3FA72563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AEBE58-3E08-407B-8E15-3100C8EF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8895-52D7-4461-9F25-E327F39F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7509E4-077C-4737-8B64-ED03AC32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35AF98-5671-4D67-98A1-15BA3F28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B7A22E-A9C5-47AD-9995-02E87590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6CBA22-474F-4FDC-91AA-6D0A2DC9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4880C7-2712-45E6-BFB3-3AAA059C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165793-F339-49FD-8134-96BD9067E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CE1F97-B2E2-41E3-81E7-18DAE20ED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087198-1B03-42B7-8787-BD8BE3CD1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57E369-43F7-40FE-B9BF-6DF8BF8A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C02960-A32C-4B58-B9FC-41A9CFC6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0E6E-9884-49BC-A1F2-5CD4C7B2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0C489E-2F8A-4B00-8689-86BD9D92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047807-1C75-4293-9CEB-AD230539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0AC8A7-E0C7-4C73-AAE8-A15FD6E1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7DEFCF-2D09-4E81-A9B6-C3B7BD4D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76979A-933F-4187-BA10-1A0B88D1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C4C3C4-4FF0-4723-9DDA-D78D932F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46A57E-0604-417D-AF1B-3430C4C9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599123-B503-40C9-9FA7-C9B763644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680198-B967-4028-BEFD-653BFEA93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37A409-A364-42FB-9DE2-57E7298BA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7A80-16E6-4E1A-A7AE-28E881B8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28D722-7ECF-4369-B211-A2BA9EC7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33F778-CC53-40E8-BA81-C94FEC19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8147F3-1DAB-41D1-8EA8-B5076A96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C6D4CA-232E-49C0-8BDE-379DC3B0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A97827-D8F5-495E-A9CA-279C3B6B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498350-5A7B-4F9C-82C3-494948DE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32A5CF-0A67-4598-BA8F-0101D35E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279804-A01F-4A01-8CB8-DB57DA14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A0BAE1-0AB3-421D-883B-4D1AE541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4830E0-8EF8-4B1F-B1D0-F12EAE903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0C3A-D8EE-4537-BC4B-4C7C371F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E583D0-BA7C-4DD4-933A-068B7B700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D598C7-DA4D-47FC-A6EC-F77710B57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66B984-7152-44FF-8CE6-94FE4794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FCF7F2-0AB7-4F45-AE0E-D927D653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B2D880-3745-4667-B8DC-15025F55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7F6329-75A7-4AD6-A161-C99F2FA2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679E03-BEC4-405A-B4AB-F7CD36D5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E980A9-BDE1-4530-8570-E81BF4D4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93BD08-E90F-4EE7-8DE5-30D5A402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6D67F0-DC43-4C50-B56A-6E430D6E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A148-012A-40A4-B10B-C65EE893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9D6481-804F-4824-96CC-39824830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C414B7-638C-4953-ADF6-E44770845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B441B0-CC8B-45B0-BF02-3CBC42BF0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3C35-B2B7-4CB1-A142-4502B99D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71CA0-711F-4501-8B3C-4267582E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3AE6-A9BE-4954-ABD5-BD2DE507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5F0D-63ED-4B17-8A78-0100E811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94F3C-B5E0-49D8-9229-E24D8865F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8DFE9-EC87-400F-BA59-BAFA8863B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03E31-1F8F-4F3F-8AD6-E607360CF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830B7-DC4C-47B5-AD8D-26F16E02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71E53-B126-43A7-B739-3D0111DB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AB00F-8937-4A18-B758-86C2DC67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C7039-7241-4263-88CF-38FF0F87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A168-D16C-455E-93E8-3D32E774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BDB11-F440-44D7-927C-B2FFE5EE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F64B1-6687-4AA6-A01A-D76A62FA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FFE9B-F384-448A-B8E7-00B4B6BA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FBE6A-2C51-4981-B482-32F9C6D6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30ACE-1FF1-49DF-AAE4-C0A6A2E9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720A5-B589-4CDC-AF73-064FC768B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6EF9C-19B9-4B3E-A63D-0B7CEAC56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9740C-1673-4812-8D27-B04181693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6A2B1-1C3C-45BA-841E-80AAA0CF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4C8BD-19C6-4D7D-9170-058451A5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9A5C-6545-4432-8C2E-D508CFB6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E4D78-E22E-4FA9-8018-DDBD9343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5E95B-03EE-485F-B064-F30A4612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FE089-08B1-4975-9A57-D20EFD58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6A0CD-CC23-41BC-8583-91D014D1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32821-6143-44AF-B50B-7B9FDAF8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FB269-1187-49BD-BF33-B828842D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82658-9ED5-4589-B4C0-0852435A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A0C12-4487-48C3-B1BD-9C2E58491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ECD23-042A-4EB3-AFC2-98FF68B2D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4BB68-7D03-40AD-82B8-593A9404E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B1C1-B16F-4DD1-9578-4DEE0B4A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2D1F3-9267-40DF-A698-C1EC2A6D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12C81-F6B7-4CD9-90FD-206E4CCC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72338-AE97-47A6-AB59-97764BF2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91736-3BC4-4D1D-87DC-65BBD5F9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7D71A-465A-4CE1-A215-A5E629F8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61E9E-FCCD-4813-8FFA-9D615AC4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97969-393A-4D48-9122-03136AFB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15EC1-61D1-4146-A892-4771D3AC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37981-F2DE-42A2-89BC-0B608B21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94F73-ED67-488D-BED6-52767C479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DF62-0642-4234-BD7E-394EFB25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6F353-7A6B-4FE7-8510-18D8ED42A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73919-BFCA-4742-BDBD-1112649CD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363CF-0469-4E00-B89D-C4798E39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E5239-0920-4807-BEA0-7CCEBE42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25B91-A72B-44ED-92F6-41283DB7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C2DDE-F532-415A-B000-4A3AEAFC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EEDBB-94C4-45CC-BB85-6F9BC070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7C6E2-01D3-4576-8F24-8F64A4CC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345C7-215D-4D05-8542-25B3CBCC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DF75A-892D-49EF-BE60-527D9683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A215-4F53-4D91-A8E4-2FAB11A7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10A8E-17B9-4C3E-ABE7-0EC46734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94124-3F9C-40B8-B5EC-6C94795FF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0E612-DA88-4A23-81B9-FA28E0515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39AAA-EFFA-46F8-8861-9A988D938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FB32F-A60B-487F-A68C-22578E46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1F77B-81C4-41DD-AF1A-B1F26819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74F97-F2D6-4D7F-BE37-C54C4814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41C7B-ADF8-4D07-A63A-31F6D853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6DDD8-B8F2-4CB0-8455-CE339E30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DB249-4FDC-4041-A11D-0489948B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50B9-8CB9-4C32-9DBA-9F4008FF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71B88-7499-49C0-87E0-3725DACB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89238-246E-4B62-8447-2F0A543C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816E8-F154-45D2-A124-90A72594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229D5-2A1C-4782-851F-62DB6BCDB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F1269-8E67-49C1-8C10-A8A733B03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92072-C6F1-4660-8F78-0CB5695CF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DA317-4C95-4088-9D68-F238779E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11D3A-8238-4D7A-B78D-77EB17E8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57527-E68A-4664-9A28-217CB772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78A19-E158-4825-BD58-37F4C77C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522C-4D42-4992-BEB4-8C399C93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37308-141F-4C25-8033-061C1D3C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96971-926A-4588-8448-CE57CDBF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D3DA6-D19B-465E-8E3A-CEBA620F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1B17C-E8D1-4523-9744-92036C8B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8B0B4-7A73-4365-868B-1D454573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7F98D-5621-4FEA-90B6-DC1076BA8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12FD7-79FE-48B2-8737-C732C5572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F17062-6BA2-48C5-9A69-975D65862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36164C-1EC2-4A3D-BE6F-E98B2025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4AB571-65E1-49FD-B48E-D2FF63AA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3.xml"/><Relationship Id="rId10" Type="http://schemas.openxmlformats.org/officeDocument/2006/relationships/slideLayout" Target="../slideLayouts/slideLayout134.xml"/><Relationship Id="rId11" Type="http://schemas.openxmlformats.org/officeDocument/2006/relationships/slideLayout" Target="../slideLayouts/slideLayout135.xml"/><Relationship Id="rId12" Type="http://schemas.openxmlformats.org/officeDocument/2006/relationships/slideLayout" Target="../slideLayouts/slideLayout136.xml"/><Relationship Id="rId13" Type="http://schemas.openxmlformats.org/officeDocument/2006/relationships/slideLayout" Target="../slideLayouts/slideLayout137.xml"/><Relationship Id="rId14" Type="http://schemas.openxmlformats.org/officeDocument/2006/relationships/slideLayout" Target="../slideLayouts/slideLayout138.xml"/><Relationship Id="rId15" Type="http://schemas.openxmlformats.org/officeDocument/2006/relationships/slideLayout" Target="../slideLayouts/slideLayout139.xml"/><Relationship Id="rId16" Type="http://schemas.openxmlformats.org/officeDocument/2006/relationships/slideLayout" Target="../slideLayouts/slideLayout140.xml"/><Relationship Id="rId17" Type="http://schemas.openxmlformats.org/officeDocument/2006/relationships/slideLayout" Target="../slideLayouts/slideLayout141.xml"/><Relationship Id="rId18" Type="http://schemas.openxmlformats.org/officeDocument/2006/relationships/slideLayout" Target="../slideLayouts/slideLayout142.xml"/><Relationship Id="rId19" Type="http://schemas.openxmlformats.org/officeDocument/2006/relationships/slideLayout" Target="../slideLayouts/slideLayout143.xml"/><Relationship Id="rId20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69.xml"/><Relationship Id="rId10" Type="http://schemas.openxmlformats.org/officeDocument/2006/relationships/slideLayout" Target="../slideLayouts/slideLayout170.xml"/><Relationship Id="rId11" Type="http://schemas.openxmlformats.org/officeDocument/2006/relationships/slideLayout" Target="../slideLayouts/slideLayout171.xml"/><Relationship Id="rId12" Type="http://schemas.openxmlformats.org/officeDocument/2006/relationships/slideLayout" Target="../slideLayouts/slideLayout172.xml"/><Relationship Id="rId13" Type="http://schemas.openxmlformats.org/officeDocument/2006/relationships/slideLayout" Target="../slideLayouts/slideLayout173.xml"/><Relationship Id="rId14" Type="http://schemas.openxmlformats.org/officeDocument/2006/relationships/slideLayout" Target="../slideLayouts/slideLayout174.xml"/><Relationship Id="rId15" Type="http://schemas.openxmlformats.org/officeDocument/2006/relationships/slideLayout" Target="../slideLayouts/slideLayout175.xml"/><Relationship Id="rId16" Type="http://schemas.openxmlformats.org/officeDocument/2006/relationships/slideLayout" Target="../slideLayouts/slideLayout176.xml"/><Relationship Id="rId17" Type="http://schemas.openxmlformats.org/officeDocument/2006/relationships/slideLayout" Target="../slideLayouts/slideLayout177.xml"/><Relationship Id="rId18" Type="http://schemas.openxmlformats.org/officeDocument/2006/relationships/slideLayout" Target="../slideLayouts/slideLayout178.xml"/><Relationship Id="rId19" Type="http://schemas.openxmlformats.org/officeDocument/2006/relationships/slideLayout" Target="../slideLayouts/slideLayout179.xml"/><Relationship Id="rId20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97.xml"/><Relationship Id="rId10" Type="http://schemas.openxmlformats.org/officeDocument/2006/relationships/slideLayout" Target="../slideLayouts/slideLayout98.xml"/><Relationship Id="rId11" Type="http://schemas.openxmlformats.org/officeDocument/2006/relationships/slideLayout" Target="../slideLayouts/slideLayout99.xml"/><Relationship Id="rId12" Type="http://schemas.openxmlformats.org/officeDocument/2006/relationships/slideLayout" Target="../slideLayouts/slideLayout100.xml"/><Relationship Id="rId13" Type="http://schemas.openxmlformats.org/officeDocument/2006/relationships/slideLayout" Target="../slideLayouts/slideLayout101.xml"/><Relationship Id="rId14" Type="http://schemas.openxmlformats.org/officeDocument/2006/relationships/slideLayout" Target="../slideLayouts/slideLayout102.xml"/><Relationship Id="rId15" Type="http://schemas.openxmlformats.org/officeDocument/2006/relationships/slideLayout" Target="../slideLayouts/slideLayout103.xml"/><Relationship Id="rId16" Type="http://schemas.openxmlformats.org/officeDocument/2006/relationships/slideLayout" Target="../slideLayouts/slideLayout104.xml"/><Relationship Id="rId17" Type="http://schemas.openxmlformats.org/officeDocument/2006/relationships/slideLayout" Target="../slideLayouts/slideLayout105.xml"/><Relationship Id="rId18" Type="http://schemas.openxmlformats.org/officeDocument/2006/relationships/slideLayout" Target="../slideLayouts/slideLayout106.xml"/><Relationship Id="rId19" Type="http://schemas.openxmlformats.org/officeDocument/2006/relationships/slideLayout" Target="../slideLayouts/slideLayout107.xml"/><Relationship Id="rId20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7A35-669B-46A8-8571-B350C08DA078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480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2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483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5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6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487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28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29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0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42F4-6055-462D-9C9A-DBEF4944D2D8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31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3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34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6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7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38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3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3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3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419C-55B7-4388-A6E2-7BD2D5957CC5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82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4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85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9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1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92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4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95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7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8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9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1DD2-11E4-4AF0-9F09-793086B49502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9"/>
    <p:sldLayoutId id="2147483793" r:id="rId10"/>
    <p:sldLayoutId id="2147483794" r:id="rId11"/>
    <p:sldLayoutId id="2147483795" r:id="rId12"/>
    <p:sldLayoutId id="2147483796" r:id="rId13"/>
    <p:sldLayoutId id="2147483797" r:id="rId14"/>
    <p:sldLayoutId id="2147483798" r:id="rId15"/>
    <p:sldLayoutId id="2147483799" r:id="rId16"/>
    <p:sldLayoutId id="2147483800" r:id="rId17"/>
    <p:sldLayoutId id="2147483801" r:id="rId18"/>
    <p:sldLayoutId id="2147483802" r:id="rId19"/>
    <p:sldLayoutId id="2147483803" r:id="rId20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643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5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646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8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9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650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3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3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3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7277-1F41-493A-A7EA-D125E9CC25EB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694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6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697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9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0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701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4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4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4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E68A-6A57-4E18-BCE8-3422FD843838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74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6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7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748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1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752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4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755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7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758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9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0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1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762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4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4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6215-C50B-42E8-B50F-0F3B96268F7E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9"/>
    <p:sldLayoutId id="2147483832" r:id="rId10"/>
    <p:sldLayoutId id="2147483833" r:id="rId11"/>
    <p:sldLayoutId id="2147483834" r:id="rId12"/>
    <p:sldLayoutId id="2147483835" r:id="rId13"/>
    <p:sldLayoutId id="2147483836" r:id="rId14"/>
    <p:sldLayoutId id="2147483837" r:id="rId15"/>
    <p:sldLayoutId id="2147483838" r:id="rId16"/>
    <p:sldLayoutId id="2147483839" r:id="rId17"/>
    <p:sldLayoutId id="2147483840" r:id="rId18"/>
    <p:sldLayoutId id="2147483841" r:id="rId19"/>
    <p:sldLayoutId id="2147483842" r:id="rId20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5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806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8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809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0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1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2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13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 type="dt" idx="4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 type="ftr" idx="4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 type="sldNum" idx="4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2B02-5C84-4A11-9FBC-B6099C7AF04E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1FED-43CC-4A26-AF66-03C74786E163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EC12-7C19-4AFF-914A-BFCFDA1F22B4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54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57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61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3F21-FBA8-4827-88C1-8F31AD7E56B7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05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7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08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0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1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2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EB89-B247-486E-AF08-B37D4CE1706C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5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8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59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1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2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63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5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6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8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9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1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2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3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BEEB-FF82-4362-A542-72C9E69BD3B4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317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9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320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2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3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324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19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0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1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3BA3-9A78-4F13-AE0F-FC696745F4AA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368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0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371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3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4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375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2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3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4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209F-FF23-4E3E-9724-0B6568B647BA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419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1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22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4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5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426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8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429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1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432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4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5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436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5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6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27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4E90-DC1D-4743-81F8-8B8B28FEF0CC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9"/>
    <p:sldLayoutId id="2147483754" r:id="rId10"/>
    <p:sldLayoutId id="2147483755" r:id="rId11"/>
    <p:sldLayoutId id="2147483756" r:id="rId12"/>
    <p:sldLayoutId id="2147483757" r:id="rId13"/>
    <p:sldLayoutId id="2147483758" r:id="rId14"/>
    <p:sldLayoutId id="2147483759" r:id="rId15"/>
    <p:sldLayoutId id="2147483760" r:id="rId16"/>
    <p:sldLayoutId id="2147483761" r:id="rId17"/>
    <p:sldLayoutId id="2147483762" r:id="rId18"/>
    <p:sldLayoutId id="2147483763" r:id="rId19"/>
    <p:sldLayoutId id="2147483764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"/>
          <p:cNvSpPr txBox="1"/>
          <p:nvPr/>
        </p:nvSpPr>
        <p:spPr>
          <a:xfrm>
            <a:off x="324000" y="475920"/>
            <a:ext cx="8496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Calibri"/>
              </a:rPr>
              <a:t>1.Список рекомендуемой литературы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6080">
              <a:lnSpc>
                <a:spcPct val="90000"/>
              </a:lnSpc>
              <a:spcBef>
                <a:spcPts val="550"/>
              </a:spcBef>
              <a:buClr>
                <a:srgbClr val="c3260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Основная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)Скляр Б. Цифровая связь. </a:t>
            </a:r>
            <a:r>
              <a:rPr b="0" lang="ru-RU" sz="2200" spc="-1" strike="noStrike">
                <a:solidFill>
                  <a:srgbClr val="404040"/>
                </a:solidFill>
                <a:latin typeface="Symbol"/>
                <a:ea typeface="Symbol"/>
              </a:rPr>
              <a:t>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М., Санкт-П, Киев: Изд. дом «Вильямс», 2003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)Передача дискретных сообщений: Учебник для ВУЗов / В. П. Шувалов, Н. В. Захарченко, В. О. Шварцман и др.; Под ред. В. П. Шувалова. – М.: Радио и связь, 1990 - 464 с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)Телекоммуникационные системы и сети: Учебное пособие. В 3-х томах. Том 1 – Современные технологии/ под ред. Шувалова В.П. – М.Телеком: 2005 – 647с.:ил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)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еория электрической связи: Учебник для ВУЗов./ Зюко А.Г., Кловский Д.Д. – М:Радио и связь, 1999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5)Кловский Д.Д., Шилкин В.А. Теория электрической связи: Сб.задач и упражнений.- М: Радио и связь, 1990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6)Цифровая телефония: Беллами Дж.,  Пер. с англ./ Под ред. А.Н.Берлина, Ю.Н.Ченышева.- М.:Эко-Трендз, 2004. – 640с.: илл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6080">
              <a:lnSpc>
                <a:spcPct val="90000"/>
              </a:lnSpc>
              <a:spcBef>
                <a:spcPts val="550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60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 txBox="1"/>
          <p:nvPr/>
        </p:nvSpPr>
        <p:spPr>
          <a:xfrm>
            <a:off x="468360" y="476280"/>
            <a:ext cx="79200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343080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ополнительна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5716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7)Гаранин М.В., Журавлев, Кунегин С.В. Системы и сети передачи информации. </a:t>
            </a:r>
            <a:r>
              <a:rPr b="0" lang="ru-RU" sz="2400" spc="-1" strike="noStrike">
                <a:solidFill>
                  <a:srgbClr val="40404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М.: Радио и связь, 2001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5716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8)Основы кодирования: Учебник для Вузов./М.Вернер. – М.Техносфера, 2004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5716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9)Макаров А.А., Прибылов В.П. Помехоустойчивое кодирование: Монография/СибГУТИ - Новосибирск, 2005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5716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0)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Лагутенко О.И. Современные модемы. </a:t>
            </a:r>
            <a:r>
              <a:rPr b="0" lang="ru-RU" sz="2400" spc="-1" strike="noStrike">
                <a:solidFill>
                  <a:srgbClr val="40404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Эко-Тредз, 2002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5716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1)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упинов Ю.П. и др. Основы передачи дискретных сообщений -М.: Радио и связь, 1992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5716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2)Захарченко И.Б. и др. Основы передачи дискретных сообщений. -М.: Радио и связь, 1990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5716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 txBox="1"/>
          <p:nvPr/>
        </p:nvSpPr>
        <p:spPr>
          <a:xfrm>
            <a:off x="468000" y="476280"/>
            <a:ext cx="828036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388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Список литературы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63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3)Сергиенко А.Б. Цифровая обработка сигналов. </a:t>
            </a:r>
            <a:r>
              <a:rPr b="0" lang="ru-RU" sz="2200" spc="-1" strike="noStrike">
                <a:solidFill>
                  <a:srgbClr val="404040"/>
                </a:solidFill>
                <a:latin typeface="Symbol"/>
                <a:ea typeface="Symbol"/>
              </a:rPr>
              <a:t>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СПб.: Питер, 2002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63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4)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Шелухин О.И., Лукьянцев Н.Ф. Цифровая обработка и передача речи.</a:t>
            </a:r>
            <a:r>
              <a:rPr b="0" lang="ru-RU" sz="2200" spc="-1" strike="noStrike">
                <a:solidFill>
                  <a:srgbClr val="404040"/>
                </a:solidFill>
                <a:latin typeface="Symbol"/>
                <a:ea typeface="Symbol"/>
              </a:rPr>
              <a:t>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М.: Радио и связь, 2000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63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5)Ватолин Д.С. Алгоритмы сжатия изображений. </a:t>
            </a:r>
            <a:r>
              <a:rPr b="0" lang="ru-RU" sz="2200" spc="-1" strike="noStrike">
                <a:solidFill>
                  <a:srgbClr val="404040"/>
                </a:solidFill>
                <a:latin typeface="Symbol"/>
                <a:ea typeface="Symbol"/>
              </a:rPr>
              <a:t>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М.: МГУ, 1999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63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6)Абдуллаев Д.А., Арипов М.Н. Передача дискретных сообщений в задачах и упражнениях. - М.; Радио и связь, 1985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63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7)Передача дискретной информации: Учебник для ВУЗов / Г. А. Емельянов, В. О. Шварцман - М.: Радио и связь, 1982-240 с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63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8)Аджемов А.С. и др. Многоканальная электросвязь и каналообразующая телеграфная аппаратура. - М.: Радио и связь, 1981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63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9)Коржик В.И. и др. Расчет помехоустойчивости систем передачи дискретных сообщений. Справочник, - М.: Радио и связь, 1981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63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0)Питерсон У., Уэлдон Э. Коды, исправляющие ошибки. - М.: Мир, 1976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6388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539280" y="333000"/>
            <a:ext cx="8083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.Список литературы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6676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1)Прокис Дж. Цифровая связь. - М.: Радио и связь, 2000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6676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2)Цифровая связь. - М., Санк-П, Киев: Изд. дом «Вильяме», 2003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6676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3)Кудряшов В.А., Глушко В.П. Системы передачи дискретной информации: Учебник – М:УМК МПС, 2002. – 384с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6676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4)Баскаков С.И. Радиотехнические цепи и сигналы: Руководство к решению задач. – М: Высшая школа, 2002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6676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5)Тепляков И.М. Телекоммуникационные системы: Сборник задач. -  М: РадиоСофт, 2008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6676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6)</a:t>
            </a:r>
            <a:r>
              <a:rPr b="0" lang="en-US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abView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для всех / Дж.Трэвис, Дж.Кринг – М.: </a:t>
            </a:r>
            <a:r>
              <a:rPr b="0" lang="en-US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VR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Пресс, 2008 – 880с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6676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7)Хернитер Марк Е. Современная система компьютерного моделирования и анализа схем электронных устройств. / Пер. с англ . Осипов А.И . – М .: Издательский дом ДМК пресс, 2006. – 488 с.: ил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66760" algn="just">
              <a:lnSpc>
                <a:spcPct val="90000"/>
              </a:lnSpc>
              <a:spcBef>
                <a:spcPts val="550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2T10:27:31Z</dcterms:created>
  <dc:creator>Регина</dc:creator>
  <dc:description/>
  <dc:language>en-US</dc:language>
  <cp:lastModifiedBy>Регина</cp:lastModifiedBy>
  <dcterms:modified xsi:type="dcterms:W3CDTF">2014-04-23T11:19:55Z</dcterms:modified>
  <cp:revision>2</cp:revision>
  <dc:subject/>
  <dc:title>Презентация PowerPoint</dc:title>
</cp:coreProperties>
</file>